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F4B2-DE4C-4730-81F5-5653FBBDB3C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6876-916A-41CC-B246-964D7019E07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5059-411F-4665-A244-2475D358152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F4AE0-E35A-4B1E-8317-9320E692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6740D-EE5D-4604-9B49-3333090B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D3F07-9782-4039-A324-D0E702B0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AF10D-AA68-4364-8880-229C8E88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CED8C-A27A-4AAF-9398-36ACF54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26569-CD83-4A12-917C-421C4C0D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C991D-A364-4C6F-9C72-32B70071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CF262-DA72-4D61-804C-23F59D64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3607C-ADBF-4825-9AB4-659011C6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0875B-9944-40B8-8159-15CD88D8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3A81F-34BC-4E01-9F66-618605F5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BC3E6-5BDD-4B85-985F-13932870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A42A-2A5B-4AE4-99DF-DAB14DFC9194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3651-A7FB-4B36-8ADB-87E710C53F85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1D61-CE95-4499-878B-DF21896FFD5B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2B46-4FD7-4F2B-82C8-4067031F652E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AE01-4A60-4F1D-BD26-67C2B89BBC7E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sp>
          <p:nvSpPr>
            <p:cNvPr id="375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그룹 15"/>
            <p:cNvGrpSpPr/>
            <p:nvPr/>
          </p:nvGrpSpPr>
          <p:grpSpPr>
            <a:xfrm>
              <a:off x="142920" y="1103400"/>
              <a:ext cx="8820360" cy="3405960"/>
              <a:chOff x="142920" y="1103400"/>
              <a:chExt cx="8820360" cy="3405960"/>
            </a:xfrm>
          </p:grpSpPr>
          <p:sp>
            <p:nvSpPr>
              <p:cNvPr id="377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AutoShape 2"/>
              <p:cNvSpPr/>
              <p:nvPr/>
            </p:nvSpPr>
            <p:spPr>
              <a:xfrm>
                <a:off x="142920" y="1509480"/>
                <a:ext cx="882036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Text Box 25"/>
              <p:cNvSpPr/>
              <p:nvPr/>
            </p:nvSpPr>
            <p:spPr>
              <a:xfrm>
                <a:off x="142920" y="1557360"/>
                <a:ext cx="882036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0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 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6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체계적으로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조적으로 모방하는 것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 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980640"/>
              <a:ext cx="867888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검토기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PE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과 활동별 시간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Gantt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cha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월별 활동카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Shed-U Graph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총괄진행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Flow chart)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 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1H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내 관련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의 종사자와 긴밀한 협조관계를 유지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0-471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 단계에서도 조직 내외부의 상황변화에 따른 장애요인 파악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슈퍼비전을 제공해야 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평가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49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2-47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안서의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의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한 장의 계획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one paper proposal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한 경우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 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999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축소해 나가는 방식으로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자 선정 기준과 절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집 부진시 대응방안도 상세히 기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를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106200" y="115920"/>
            <a:ext cx="9074160" cy="6851160"/>
            <a:chOff x="106200" y="115920"/>
            <a:chExt cx="9074160" cy="6851160"/>
          </a:xfrm>
        </p:grpSpPr>
        <p:sp>
          <p:nvSpPr>
            <p:cNvPr id="428" name="직사각형 5"/>
            <p:cNvSpPr/>
            <p:nvPr/>
          </p:nvSpPr>
          <p:spPr>
            <a:xfrm>
              <a:off x="106200" y="1159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06200" y="473040"/>
              <a:ext cx="8968680" cy="3348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78920" y="476280"/>
              <a:ext cx="9001440" cy="31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들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체험여행 등의 일회성 프로그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식 및 다과비 등을 지나치게 많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편성하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06200" y="38386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06200" y="4162320"/>
              <a:ext cx="8968680" cy="1643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06200" y="41738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평가항목 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8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282600" y="5816520"/>
              <a:ext cx="7673040" cy="1150560"/>
              <a:chOff x="282600" y="5816520"/>
              <a:chExt cx="7673040" cy="115056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282600" y="5816520"/>
                <a:ext cx="903600" cy="81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1167840" y="5943600"/>
                <a:ext cx="67878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 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 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 유사 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81373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엇이 되어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증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조직에서 활용 가능한 프로그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봉숭아 기르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-&g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꽃물들이기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상요법 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2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0:34Z</dcterms:modified>
  <cp:revision>36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